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9BDD-DC41-4C28-80D8-36316D3BF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C21B-4E69-48A6-B7AA-3B667685E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lickbiology.com/igcse-plant-reproduction-powerpoint-presentation-workshee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6EF5-6B14-4D0B-AD3B-D153B7E9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2.nicerweb.com/Locked/media/ch38/flow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084E-866A-44E0-8C11-B31C430D2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parknotes.com/biology/plants/plantclassification/section2.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88BA-3BB2-476D-8559-5A20922F9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dvance.uconn.edu/2004/040209/0402091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CAB1-9E95-4E3C-89F9-603C51BCF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903.nicerweb.com/Locked/media/ch38/pollen_fertiliz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248D-9F58-4497-97A0-2C080B615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boundless.com/biology/textbooks/boundless-biology-textbook/plant-reproduction-32/pollination-and-fertilization-190/development-of-the-seed-725-1195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DB55-38E7-4824-A89B-36991FE2E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spersal image from: https://www.blendspace.com/lessons/XmPUWR_sqJVY2A/seed-dispersal-migration-hibernation-es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dispersal image from: http://science.psu.edu/news-and-events/2010-news/Carlo2-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of seed dispersal: https://www.youtube.com/watch?v=6loGKPKDq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6622-A9B4-4A68-817C-A6DFA9C5F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8F0C-FDE1-4E17-BE44-69651C453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D talk link: https://www.ted.com/talks/louie_schwartzberg_the_hidden_beauty_of_pollination?language=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906-3810-4CB0-AFFA-4FA11D76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914-9965-4C9B-9F7E-05BCCCA2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5074-7423-41E9-A245-56EF1149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5F6-3620-40CF-8C9D-0F616193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19C-B5B5-4E09-8F20-29142F93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E77-4C16-4DF5-824A-4EBD6AF5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716-DAF7-4DAB-9D29-5129A9FB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6C9-C76C-40D2-AB9E-404CCA14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43E-8B1A-47A7-87F2-79CF1143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7D8-9FF0-4983-BC99-92CD9F87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154-D9AC-4F2D-976F-6900B6C9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295-7B0A-471B-B767-86015DB8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0316-7B20-49A4-A36E-D271A3129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6loGKPKDqCw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ted.com/talks/louie_schwartzberg_the_hidden_beauty_of_pollination?language=e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eed Plants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3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 in 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38_02aFlowerStructure-L"/>
          <p:cNvPicPr/>
          <p:nvPr/>
        </p:nvPicPr>
        <p:blipFill>
          <a:blip r:embed="rId1"/>
          <a:stretch/>
        </p:blipFill>
        <p:spPr>
          <a:xfrm>
            <a:off x="1963800" y="1828800"/>
            <a:ext cx="521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 in Gymn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28" descr="gymnospermlifecycle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 vs. Cross-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ollen04"/>
          <p:cNvPicPr/>
          <p:nvPr/>
        </p:nvPicPr>
        <p:blipFill>
          <a:blip r:embed="rId1"/>
          <a:stretch/>
        </p:blipFill>
        <p:spPr>
          <a:xfrm>
            <a:off x="1279440" y="1981080"/>
            <a:ext cx="658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38_06DoubleFertilizationA"/>
          <p:cNvPicPr/>
          <p:nvPr/>
        </p:nvPicPr>
        <p:blipFill>
          <a:blip r:embed="rId1"/>
          <a:stretch/>
        </p:blipFill>
        <p:spPr>
          <a:xfrm>
            <a:off x="1973160" y="1981080"/>
            <a:ext cx="51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ure-32-02-09"/>
          <p:cNvPicPr/>
          <p:nvPr/>
        </p:nvPicPr>
        <p:blipFill>
          <a:blip r:embed="rId1"/>
          <a:stretch/>
        </p:blipFill>
        <p:spPr>
          <a:xfrm>
            <a:off x="685800" y="2263680"/>
            <a:ext cx="7772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ed Disp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seed_dispersal- wind"/>
          <p:cNvPicPr/>
          <p:nvPr/>
        </p:nvPicPr>
        <p:blipFill>
          <a:blip r:embed="rId2"/>
          <a:stretch/>
        </p:blipFill>
        <p:spPr>
          <a:xfrm>
            <a:off x="228600" y="1843200"/>
            <a:ext cx="4343400" cy="41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image_mini"/>
          <p:cNvPicPr/>
          <p:nvPr/>
        </p:nvPicPr>
        <p:blipFill>
          <a:blip r:embed="rId3"/>
          <a:stretch/>
        </p:blipFill>
        <p:spPr>
          <a:xfrm>
            <a:off x="4648320" y="2827440"/>
            <a:ext cx="426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inclu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genet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are able to be dispersed away from parent plant (less compet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can remain dormant until conditions become favo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idden Beauty of Pollinatio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evolution of flowers &amp; pollinators is amazing, and our food supply depends largely on this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important to think about how our activities can help, rather than harm the pollin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nspired by this introduction &amp;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xcerp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beautiful film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gs of Life”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4T01:20:23Z</dcterms:created>
  <dc:creator>rubina khan</dc:creator>
  <dc:description/>
  <dc:language>en-US</dc:language>
  <cp:lastModifiedBy>rubina khan</cp:lastModifiedBy>
  <dcterms:modified xsi:type="dcterms:W3CDTF">2017-06-08T13:13:22Z</dcterms:modified>
  <cp:revision>57</cp:revision>
  <dc:subject/>
  <dc:title>Plant Reproduction</dc:title>
</cp:coreProperties>
</file>